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10C-CF98-4B50-80B2-83A4CD57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CD4-925A-479B-85A7-2B9C055E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49B-DC49-4387-81B2-B413D6F9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B33-15D2-443B-A24D-47115034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BD4C-C55E-4779-BECE-6BDA1DEF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D53F-334D-4E4F-A9BE-AC5214F6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4858-44C3-4200-8242-D09E573D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A25A-6214-4F30-8F3B-EA82323B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4C44-6AA5-4DA6-9BD5-7E933D15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CBC4-4100-4C6E-BEB9-71300A6A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0AF5-1E6F-4034-B338-43312E87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6CE-2FCC-45D2-9D19-8E687A1D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0079-ED04-441D-A0ED-E968E0DC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F58F-3D5E-4A8F-AFC4-4F8C32D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D17A-C4E2-4EB0-A22F-039D7922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A734-57CA-481F-8E23-F95A458F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71FE-2120-4C2A-9DCC-44AA9E2E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689-3E0B-4CAF-A384-4E77D524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B00-224D-42C2-BEEE-33E13EB1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00C-2DD1-414B-8935-5AE0C0ED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042-D243-4FDA-BF91-0A099FE2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933-6739-4D11-A0B1-2ABACD57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98B-95D7-4E3B-97AB-0596C5F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637-0052-418C-8DE9-A32CC43C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BAD2-0034-48A3-A475-ABDAC3BEF07D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EA15-9539-479F-A909-A1788DCBAF66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.wmf"/><Relationship Id="rId3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9147240" cy="5162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2133720"/>
            <a:ext cx="712944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s-ES" sz="5400" spc="-1" strike="noStrike">
                <a:solidFill>
                  <a:srgbClr val="330033"/>
                </a:solidFill>
                <a:latin typeface="Times New Roman"/>
              </a:rPr>
              <a:t>INCOTERMS 2010”</a:t>
            </a:r>
            <a:br>
              <a:rPr sz="5400"/>
            </a:br>
            <a:r>
              <a:rPr b="0" lang="es-ES" sz="4800" spc="-1" strike="noStrike">
                <a:solidFill>
                  <a:srgbClr val="330033"/>
                </a:solidFill>
                <a:latin typeface="Times New Roman"/>
              </a:rPr>
              <a:t>Parte II</a:t>
            </a:r>
            <a:br>
              <a:rPr sz="5400"/>
            </a:br>
            <a:br>
              <a:rPr sz="5400"/>
            </a:br>
            <a:r>
              <a:rPr b="0" lang="es-ES" sz="4800" spc="-1" strike="noStrike">
                <a:solidFill>
                  <a:srgbClr val="ffffe1"/>
                </a:solidFill>
                <a:latin typeface="Times New Roman"/>
              </a:rPr>
              <a:t>	</a:t>
            </a:r>
            <a:r>
              <a:rPr b="0" lang="es-ES" sz="4800" spc="-1" strike="noStrike">
                <a:solidFill>
                  <a:srgbClr val="ffffe1"/>
                </a:solidFill>
                <a:latin typeface="Times New Roman"/>
              </a:rPr>
              <a:t>	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6281640"/>
            <a:ext cx="3477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00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INCOTERM: FOB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ee On Board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-Libre a bordo (indicando puerto de embarque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82760" y="1773360"/>
          <a:ext cx="8337240" cy="4365360"/>
        </p:xfrm>
        <a:graphic>
          <a:graphicData uri="http://schemas.openxmlformats.org/drawingml/2006/table">
            <a:tbl>
              <a:tblPr/>
              <a:tblGrid>
                <a:gridCol w="1579680"/>
                <a:gridCol w="3258000"/>
                <a:gridCol w="3499560"/>
              </a:tblGrid>
              <a:tr h="91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 a bordo del buque elegido por el Comprador en el puerto de embarque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signar y reservar el Buqu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rrer con los gastos y riesgos inherentes a la  mercancía desde que traspasa la borda del buqu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700200" y="2720880"/>
          <a:ext cx="113508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2720880"/>
                    <a:ext cx="11350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025880" y="439416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954080" y="2906640"/>
          <a:ext cx="7239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4080" y="2906640"/>
                    <a:ext cx="7239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586560" y="2927520"/>
          <a:ext cx="66528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6560" y="2927520"/>
                    <a:ext cx="665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7435800" y="2781360"/>
          <a:ext cx="104796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35800" y="2781360"/>
                    <a:ext cx="10479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2816280" y="2835360"/>
            <a:ext cx="591840" cy="621720"/>
            <a:chOff x="2816280" y="2835360"/>
            <a:chExt cx="591840" cy="621720"/>
          </a:xfrm>
        </p:grpSpPr>
        <p:graphicFrame>
          <p:nvGraphicFramePr>
            <p:cNvPr id="273" name=""/>
            <p:cNvGraphicFramePr/>
            <p:nvPr/>
          </p:nvGraphicFramePr>
          <p:xfrm>
            <a:off x="2968560" y="2835360"/>
            <a:ext cx="28728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68560" y="28353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3120840" y="3063600"/>
            <a:ext cx="2872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0840" y="30636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"/>
            <p:cNvGraphicFramePr/>
            <p:nvPr/>
          </p:nvGraphicFramePr>
          <p:xfrm>
            <a:off x="2816280" y="306360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16280" y="30636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9" name=""/>
          <p:cNvGraphicFramePr/>
          <p:nvPr/>
        </p:nvGraphicFramePr>
        <p:xfrm>
          <a:off x="3413160" y="2803680"/>
          <a:ext cx="1197000" cy="695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3160" y="2803680"/>
                    <a:ext cx="11970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575240" y="2781360"/>
          <a:ext cx="1081080" cy="741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5240" y="2781360"/>
                    <a:ext cx="1081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105440" y="4486320"/>
            <a:ext cx="439416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5320" y="357516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37880" y="356724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038480" y="36968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08360" y="35402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84440" y="35384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22920" y="35877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2920" y="3586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39440" y="353376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86200" y="357984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6800" y="238428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49840" y="234648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83480" y="784080"/>
            <a:ext cx="2360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, Segur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hasta cru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a borda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797280" y="36954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40388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7240" y="4487760"/>
            <a:ext cx="31971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mercancía cruzando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rda”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4240" y="2054160"/>
            <a:ext cx="0" cy="459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4880" y="1720800"/>
            <a:ext cx="60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3520" y="2048040"/>
            <a:ext cx="3733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86280" y="2048040"/>
            <a:ext cx="274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3320" y="163980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163512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502596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FOB -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Free On Board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792760" y="2870280"/>
            <a:ext cx="591840" cy="621720"/>
            <a:chOff x="5792760" y="2870280"/>
            <a:chExt cx="591840" cy="621720"/>
          </a:xfrm>
        </p:grpSpPr>
        <p:graphicFrame>
          <p:nvGraphicFramePr>
            <p:cNvPr id="307" name=""/>
            <p:cNvGraphicFramePr/>
            <p:nvPr/>
          </p:nvGraphicFramePr>
          <p:xfrm>
            <a:off x="5945040" y="28702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45040" y="28702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6097320" y="3098520"/>
            <a:ext cx="287280" cy="393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097320" y="309852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792760" y="3098520"/>
            <a:ext cx="287280" cy="3934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792760" y="309852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e1"/>
                </a:solidFill>
                <a:latin typeface="Times New Roman"/>
              </a:rPr>
              <a:t>GRUPO 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Característica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Entrega en Punto de Desti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Vendedor designa y paga el Transpo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Comprador asume el riesgo del transporte princip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155520"/>
            <a:ext cx="7632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INCOTERM: CFR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st and Freight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- Costo y flete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 (indicando puerto de destino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11360" y="1700280"/>
          <a:ext cx="8432640" cy="4249440"/>
        </p:xfrm>
        <a:graphic>
          <a:graphicData uri="http://schemas.openxmlformats.org/drawingml/2006/table">
            <a:tbl>
              <a:tblPr/>
              <a:tblGrid>
                <a:gridCol w="2092320"/>
                <a:gridCol w="3111480"/>
                <a:gridCol w="3228840"/>
              </a:tblGrid>
              <a:tr h="89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350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el buque, siendo por su cuenta el flete y la carga hasta el puerto de desti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cualquier gasto adicional y riesgo de pérdida o deterioro y su reclamación y seguimiento desde que la mercancía traspasa la borda del buque en el puerto de embarque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619200" y="2952720"/>
          <a:ext cx="973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2952720"/>
                    <a:ext cx="973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049640" y="4543560"/>
            <a:ext cx="4724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860480" y="3021120"/>
          <a:ext cx="71136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60480" y="3021120"/>
                    <a:ext cx="711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6551640" y="3017880"/>
          <a:ext cx="755640" cy="6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1640" y="3017880"/>
                    <a:ext cx="75564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424640" y="2884320"/>
          <a:ext cx="1174680" cy="77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24640" y="2884320"/>
                    <a:ext cx="11746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2770200" y="2984400"/>
            <a:ext cx="591840" cy="622440"/>
            <a:chOff x="2770200" y="2984400"/>
            <a:chExt cx="591840" cy="622440"/>
          </a:xfrm>
        </p:grpSpPr>
        <p:graphicFrame>
          <p:nvGraphicFramePr>
            <p:cNvPr id="327" name=""/>
            <p:cNvGraphicFramePr/>
            <p:nvPr/>
          </p:nvGraphicFramePr>
          <p:xfrm>
            <a:off x="2922480" y="298440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22480" y="298440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9" name=""/>
            <p:cNvGraphicFramePr/>
            <p:nvPr/>
          </p:nvGraphicFramePr>
          <p:xfrm>
            <a:off x="3074760" y="321300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74760" y="321300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"/>
            <p:cNvGraphicFramePr/>
            <p:nvPr/>
          </p:nvGraphicFramePr>
          <p:xfrm>
            <a:off x="2770200" y="3213000"/>
            <a:ext cx="28728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70200" y="321300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3" name=""/>
          <p:cNvGrpSpPr/>
          <p:nvPr/>
        </p:nvGrpSpPr>
        <p:grpSpPr>
          <a:xfrm>
            <a:off x="5857920" y="3009960"/>
            <a:ext cx="592200" cy="642960"/>
            <a:chOff x="5857920" y="3009960"/>
            <a:chExt cx="592200" cy="642960"/>
          </a:xfrm>
        </p:grpSpPr>
        <p:graphicFrame>
          <p:nvGraphicFramePr>
            <p:cNvPr id="334" name=""/>
            <p:cNvGraphicFramePr/>
            <p:nvPr/>
          </p:nvGraphicFramePr>
          <p:xfrm>
            <a:off x="5995800" y="3009960"/>
            <a:ext cx="30348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95800" y="300996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"/>
            <p:cNvGraphicFramePr/>
            <p:nvPr/>
          </p:nvGraphicFramePr>
          <p:xfrm>
            <a:off x="6148440" y="323856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8440" y="323856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"/>
            <p:cNvGraphicFramePr/>
            <p:nvPr/>
          </p:nvGraphicFramePr>
          <p:xfrm>
            <a:off x="5857920" y="32464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857920" y="32464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0" name=""/>
          <p:cNvGraphicFramePr/>
          <p:nvPr/>
        </p:nvGraphicFramePr>
        <p:xfrm>
          <a:off x="3459240" y="2847960"/>
          <a:ext cx="1197000" cy="766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59240" y="2847960"/>
                    <a:ext cx="1197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622760" y="2965320"/>
          <a:ext cx="1139760" cy="671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22760" y="2965320"/>
                    <a:ext cx="113976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4140360" y="4613400"/>
            <a:ext cx="5003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seguro hasta puerto de desti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4640" y="370044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88640" y="372888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4051080" y="3939840"/>
            <a:ext cx="12600" cy="61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51120" y="3701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25760" y="3701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56400" y="3747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57840" y="3736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45840" y="371808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54600" y="374184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11160" y="215280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24051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822840" y="3949560"/>
            <a:ext cx="0" cy="62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840" y="455436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7800" y="4591080"/>
            <a:ext cx="33739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hasta pue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la “borda”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722560" y="2124000"/>
            <a:ext cx="11160" cy="390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48520" y="183528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F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78000" y="765000"/>
            <a:ext cx="23029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hast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puerto de desti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hasta cru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a borda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2360" y="1806480"/>
            <a:ext cx="52434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69920" y="1425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8816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CFR -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st and Freight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000" y="155160"/>
            <a:ext cx="784836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INCOTERM: CIF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, Insurance and Freight-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Costo, seguro y flete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(indicando puerto de destino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82760" y="1557360"/>
          <a:ext cx="8661240" cy="5057640"/>
        </p:xfrm>
        <a:graphic>
          <a:graphicData uri="http://schemas.openxmlformats.org/drawingml/2006/table">
            <a:tbl>
              <a:tblPr/>
              <a:tblGrid>
                <a:gridCol w="2149200"/>
                <a:gridCol w="3195720"/>
                <a:gridCol w="331632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972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el buque y pagar el flete y la carga hasta el puerto de desti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scribir una póliza de seguro de protección de la mercancía en el transporte por un importe mínimo del 110% de su val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unque el Vendedor contrata y paga el seguro, la mercancía viaja a riesgo del Comprador, quien es el beneficiario de la póliza por designación directa o por el carácter transferible de la mis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609480" y="2717640"/>
          <a:ext cx="11588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17640"/>
                    <a:ext cx="11588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4025880" y="452916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919160" y="2994120"/>
          <a:ext cx="72252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9160" y="2994120"/>
                    <a:ext cx="7225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726240" y="2990880"/>
          <a:ext cx="72216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2990880"/>
                    <a:ext cx="722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7599240" y="2798640"/>
          <a:ext cx="11289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9240" y="2798640"/>
                    <a:ext cx="11289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2757600" y="2922480"/>
            <a:ext cx="591840" cy="622440"/>
            <a:chOff x="2757600" y="2922480"/>
            <a:chExt cx="591840" cy="622440"/>
          </a:xfrm>
        </p:grpSpPr>
        <p:graphicFrame>
          <p:nvGraphicFramePr>
            <p:cNvPr id="377" name=""/>
            <p:cNvGraphicFramePr/>
            <p:nvPr/>
          </p:nvGraphicFramePr>
          <p:xfrm>
            <a:off x="2909880" y="292248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09880" y="29224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9" name=""/>
            <p:cNvGraphicFramePr/>
            <p:nvPr/>
          </p:nvGraphicFramePr>
          <p:xfrm>
            <a:off x="3062160" y="315108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62160" y="31510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"/>
            <p:cNvGraphicFramePr/>
            <p:nvPr/>
          </p:nvGraphicFramePr>
          <p:xfrm>
            <a:off x="2757600" y="3151080"/>
            <a:ext cx="28728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57600" y="31510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83" name=""/>
          <p:cNvGraphicFramePr/>
          <p:nvPr/>
        </p:nvGraphicFramePr>
        <p:xfrm>
          <a:off x="3470400" y="2705040"/>
          <a:ext cx="1197000" cy="83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70400" y="2705040"/>
                    <a:ext cx="11970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4599000" y="2671920"/>
          <a:ext cx="1312920" cy="869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99000" y="2671920"/>
                    <a:ext cx="13129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4043520" y="4599000"/>
            <a:ext cx="43941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6800" y="363996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01320" y="362124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038480" y="38304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20960" y="3639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95600" y="3652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19840" y="3662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919840" y="3652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3080" y="363384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94280" y="365616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03320" y="23907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26320" y="241308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798720" y="38304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45054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6320" y="4576680"/>
            <a:ext cx="36680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er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la “borda”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72320" y="2236680"/>
            <a:ext cx="0" cy="43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18160" y="194796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89440" y="476280"/>
            <a:ext cx="2359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puerto de desti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hasta cru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a borda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0280" y="1868400"/>
            <a:ext cx="5334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68280" y="14479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545796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CIF -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st, Insurance and Freight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33960" y="2936880"/>
            <a:ext cx="591840" cy="622440"/>
            <a:chOff x="6033960" y="2936880"/>
            <a:chExt cx="591840" cy="622440"/>
          </a:xfrm>
        </p:grpSpPr>
        <p:graphicFrame>
          <p:nvGraphicFramePr>
            <p:cNvPr id="409" name=""/>
            <p:cNvGraphicFramePr/>
            <p:nvPr/>
          </p:nvGraphicFramePr>
          <p:xfrm>
            <a:off x="6186240" y="293688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86240" y="29368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6338520" y="3165480"/>
            <a:ext cx="287280" cy="393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38520" y="31654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6033960" y="3165480"/>
            <a:ext cx="287280" cy="393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033960" y="31654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155160"/>
            <a:ext cx="828036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0033"/>
                </a:solidFill>
                <a:latin typeface="Book Antiqua"/>
              </a:rPr>
              <a:t>INCOTERM: CPT – </a:t>
            </a:r>
            <a:r>
              <a:rPr b="0" lang="en-US" sz="2600" spc="-1" strike="noStrike">
                <a:solidFill>
                  <a:srgbClr val="330033"/>
                </a:solidFill>
                <a:latin typeface="Book Antiqua"/>
              </a:rPr>
              <a:t>Carriage Paid To </a:t>
            </a:r>
            <a:r>
              <a:rPr b="0" lang="es-ES" sz="2600" spc="-1" strike="noStrike">
                <a:solidFill>
                  <a:srgbClr val="330033"/>
                </a:solidFill>
                <a:latin typeface="Book Antiqua"/>
              </a:rPr>
              <a:t>- Porte pagado hasta (indicando el lugar de destino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11280" y="1700280"/>
          <a:ext cx="8281800" cy="3960360"/>
        </p:xfrm>
        <a:graphic>
          <a:graphicData uri="http://schemas.openxmlformats.org/drawingml/2006/table">
            <a:tbl>
              <a:tblPr/>
              <a:tblGrid>
                <a:gridCol w="2054880"/>
                <a:gridCol w="3055680"/>
                <a:gridCol w="3171240"/>
              </a:tblGrid>
              <a:tr h="71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45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y pagar el transporte hasta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, incluidos los costos que esto conllev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los riesgos inherentes a la mercancía desde que el Vendedor la entrega al primer transportista, así como cualquier gasto adicional en transito (carga, descarga, daños en tránsito, etc.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469800" y="2916360"/>
          <a:ext cx="106524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2916360"/>
                    <a:ext cx="10652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3587760" y="465948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652760" y="3081240"/>
          <a:ext cx="6411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2760" y="3081240"/>
                    <a:ext cx="641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6313320" y="3098880"/>
          <a:ext cx="65268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13320" y="3098880"/>
                    <a:ext cx="6526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7101000" y="2803680"/>
          <a:ext cx="966600" cy="81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1000" y="2803680"/>
                    <a:ext cx="966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6" name=""/>
          <p:cNvGrpSpPr/>
          <p:nvPr/>
        </p:nvGrpSpPr>
        <p:grpSpPr>
          <a:xfrm>
            <a:off x="2376360" y="3043080"/>
            <a:ext cx="591840" cy="622440"/>
            <a:chOff x="2376360" y="3043080"/>
            <a:chExt cx="591840" cy="622440"/>
          </a:xfrm>
        </p:grpSpPr>
        <p:graphicFrame>
          <p:nvGraphicFramePr>
            <p:cNvPr id="427" name=""/>
            <p:cNvGraphicFramePr/>
            <p:nvPr/>
          </p:nvGraphicFramePr>
          <p:xfrm>
            <a:off x="2528640" y="3043080"/>
            <a:ext cx="2872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28640" y="30430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2680920" y="327168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680920" y="32716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1" name=""/>
            <p:cNvGraphicFramePr/>
            <p:nvPr/>
          </p:nvGraphicFramePr>
          <p:xfrm>
            <a:off x="2376360" y="3271680"/>
            <a:ext cx="28728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376360" y="327168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3" name=""/>
          <p:cNvGrpSpPr/>
          <p:nvPr/>
        </p:nvGrpSpPr>
        <p:grpSpPr>
          <a:xfrm>
            <a:off x="5634000" y="3030480"/>
            <a:ext cx="592200" cy="642960"/>
            <a:chOff x="5634000" y="3030480"/>
            <a:chExt cx="592200" cy="642960"/>
          </a:xfrm>
        </p:grpSpPr>
        <p:graphicFrame>
          <p:nvGraphicFramePr>
            <p:cNvPr id="434" name=""/>
            <p:cNvGraphicFramePr/>
            <p:nvPr/>
          </p:nvGraphicFramePr>
          <p:xfrm>
            <a:off x="5771880" y="3030480"/>
            <a:ext cx="30348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71880" y="303048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5924520" y="325908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924520" y="325908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5634000" y="326700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34000" y="32670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0" name=""/>
          <p:cNvSpPr/>
          <p:nvPr/>
        </p:nvSpPr>
        <p:spPr>
          <a:xfrm>
            <a:off x="3619440" y="4741920"/>
            <a:ext cx="439416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seguro hasta punto de desti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5080" y="368928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59960" y="380052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98920" y="39891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05160" y="378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90960" y="38070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37160" y="37940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48320" y="378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17560" y="3798720"/>
            <a:ext cx="1360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convenido de E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36080" y="3813120"/>
            <a:ext cx="88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47720" y="242100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59680" y="2425680"/>
            <a:ext cx="792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468680" y="2411280"/>
            <a:ext cx="1090440" cy="1441080"/>
            <a:chOff x="4468680" y="2411280"/>
            <a:chExt cx="1090440" cy="1441080"/>
          </a:xfrm>
        </p:grpSpPr>
        <p:graphicFrame>
          <p:nvGraphicFramePr>
            <p:cNvPr id="453" name=""/>
            <p:cNvGraphicFramePr/>
            <p:nvPr/>
          </p:nvGraphicFramePr>
          <p:xfrm>
            <a:off x="4616640" y="2411280"/>
            <a:ext cx="942480" cy="354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616640" y="2411280"/>
                      <a:ext cx="94248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"/>
            <p:cNvGraphicFramePr/>
            <p:nvPr/>
          </p:nvGraphicFramePr>
          <p:xfrm>
            <a:off x="4728240" y="3398040"/>
            <a:ext cx="686880" cy="4543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728240" y="3398040"/>
                      <a:ext cx="686880" cy="4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"/>
            <p:cNvGraphicFramePr/>
            <p:nvPr/>
          </p:nvGraphicFramePr>
          <p:xfrm>
            <a:off x="4468680" y="2765880"/>
            <a:ext cx="1060560" cy="5238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468680" y="2765880"/>
                      <a:ext cx="10605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9" name=""/>
          <p:cNvSpPr/>
          <p:nvPr/>
        </p:nvSpPr>
        <p:spPr>
          <a:xfrm flipV="1">
            <a:off x="3370320" y="39952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419040" y="4671720"/>
            <a:ext cx="2971800" cy="11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9200" y="4726080"/>
            <a:ext cx="330696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hasta p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el 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866920" y="2421000"/>
            <a:ext cx="1116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51640" y="2060640"/>
            <a:ext cx="58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57760" y="533520"/>
            <a:ext cx="2584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hast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punto de desti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de carga en 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9640" y="1916280"/>
            <a:ext cx="54864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35280" y="155736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992320" y="2378160"/>
            <a:ext cx="1068120" cy="1512360"/>
            <a:chOff x="2992320" y="2378160"/>
            <a:chExt cx="1068120" cy="1512360"/>
          </a:xfrm>
        </p:grpSpPr>
        <p:graphicFrame>
          <p:nvGraphicFramePr>
            <p:cNvPr id="468" name=""/>
            <p:cNvGraphicFramePr/>
            <p:nvPr/>
          </p:nvGraphicFramePr>
          <p:xfrm>
            <a:off x="3137400" y="2378160"/>
            <a:ext cx="923040" cy="3722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6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137400" y="2378160"/>
                      <a:ext cx="92304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0" name=""/>
            <p:cNvGraphicFramePr/>
            <p:nvPr/>
          </p:nvGraphicFramePr>
          <p:xfrm>
            <a:off x="3246840" y="3413880"/>
            <a:ext cx="672840" cy="4766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246840" y="3413880"/>
                      <a:ext cx="672840" cy="4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2" name=""/>
            <p:cNvGraphicFramePr/>
            <p:nvPr/>
          </p:nvGraphicFramePr>
          <p:xfrm>
            <a:off x="2992320" y="2750400"/>
            <a:ext cx="1038960" cy="5497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73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992320" y="2750400"/>
                      <a:ext cx="1038960" cy="54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2499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CPT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arriage Paid To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000" y="155520"/>
            <a:ext cx="82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INCOTERM: CIP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arriage and Insurance Paid To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orte, 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Seguro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agado Hasta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(indicando el punto de destino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733320" y="1628640"/>
          <a:ext cx="8086680" cy="4753080"/>
        </p:xfrm>
        <a:graphic>
          <a:graphicData uri="http://schemas.openxmlformats.org/drawingml/2006/table">
            <a:tbl>
              <a:tblPr/>
              <a:tblGrid>
                <a:gridCol w="1594080"/>
                <a:gridCol w="3216240"/>
                <a:gridCol w="3276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y pagar el transporte de la mercancía hasta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tratar una póliza de seguro de protección de la mercancía en el transporte por un importe mínimo del 110% de su val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la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los riesgos inherentes a la mercancía desde que el Vendedor la entrega al primer transportista, así como cualquier gasto adicional en transito (carga, descarga, daños en tránsito, etc.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1640" y="2492280"/>
            <a:ext cx="7038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00ac0"/>
                </a:solidFill>
                <a:latin typeface="Book Antiqua"/>
              </a:rPr>
              <a:t>IV. Obligaciones de cada una de las pa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4005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aracterístic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ínima Obligación para el Vend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6064200" y="3274920"/>
          <a:ext cx="3016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4200" y="3274920"/>
                    <a:ext cx="3016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2736720" y="38307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22520" y="38433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45160" y="37926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645160" y="3805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68200" y="4662360"/>
            <a:ext cx="35053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25880" y="4686480"/>
            <a:ext cx="472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20640" y="2809800"/>
          <a:ext cx="1089000" cy="9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2809800"/>
                    <a:ext cx="108900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4807080" y="-14760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811160" y="3132000"/>
          <a:ext cx="750960" cy="58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1160" y="3132000"/>
                    <a:ext cx="7509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539040" y="3138480"/>
          <a:ext cx="63972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39040" y="3138480"/>
                    <a:ext cx="6397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7364520" y="2843280"/>
          <a:ext cx="1149120" cy="8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64520" y="2843280"/>
                    <a:ext cx="11491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4" name=""/>
          <p:cNvGrpSpPr/>
          <p:nvPr/>
        </p:nvGrpSpPr>
        <p:grpSpPr>
          <a:xfrm>
            <a:off x="2843280" y="3090960"/>
            <a:ext cx="475920" cy="635040"/>
            <a:chOff x="2843280" y="3090960"/>
            <a:chExt cx="475920" cy="635040"/>
          </a:xfrm>
        </p:grpSpPr>
        <p:graphicFrame>
          <p:nvGraphicFramePr>
            <p:cNvPr id="495" name=""/>
            <p:cNvGraphicFramePr/>
            <p:nvPr/>
          </p:nvGraphicFramePr>
          <p:xfrm>
            <a:off x="3031920" y="3332160"/>
            <a:ext cx="28728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031920" y="33321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7" name=""/>
            <p:cNvGraphicFramePr/>
            <p:nvPr/>
          </p:nvGraphicFramePr>
          <p:xfrm>
            <a:off x="2843280" y="3090960"/>
            <a:ext cx="28728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9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43280" y="309096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99" name=""/>
          <p:cNvGraphicFramePr/>
          <p:nvPr/>
        </p:nvGraphicFramePr>
        <p:xfrm>
          <a:off x="2728800" y="3321000"/>
          <a:ext cx="287280" cy="393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28800" y="3321000"/>
                    <a:ext cx="287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5686560" y="3094200"/>
            <a:ext cx="441000" cy="630000"/>
            <a:chOff x="5686560" y="3094200"/>
            <a:chExt cx="441000" cy="630000"/>
          </a:xfrm>
        </p:grpSpPr>
        <p:graphicFrame>
          <p:nvGraphicFramePr>
            <p:cNvPr id="502" name=""/>
            <p:cNvGraphicFramePr/>
            <p:nvPr/>
          </p:nvGraphicFramePr>
          <p:xfrm>
            <a:off x="5824440" y="3094200"/>
            <a:ext cx="3031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440" y="309420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5686560" y="333072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86560" y="333072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6" name=""/>
          <p:cNvSpPr/>
          <p:nvPr/>
        </p:nvSpPr>
        <p:spPr>
          <a:xfrm>
            <a:off x="4114800" y="4686480"/>
            <a:ext cx="43941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000" y="378144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255080" y="372888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014720" y="4151160"/>
            <a:ext cx="11160" cy="5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77520" y="381960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94400" y="377028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878120" y="26337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43720" y="258444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513320" y="2725560"/>
            <a:ext cx="996840" cy="1525320"/>
            <a:chOff x="4513320" y="2725560"/>
            <a:chExt cx="996840" cy="1525320"/>
          </a:xfrm>
        </p:grpSpPr>
        <p:graphicFrame>
          <p:nvGraphicFramePr>
            <p:cNvPr id="515" name=""/>
            <p:cNvGraphicFramePr/>
            <p:nvPr/>
          </p:nvGraphicFramePr>
          <p:xfrm>
            <a:off x="4648680" y="2725560"/>
            <a:ext cx="861480" cy="375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648680" y="2725560"/>
                      <a:ext cx="861480" cy="37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"/>
            <p:cNvGraphicFramePr/>
            <p:nvPr/>
          </p:nvGraphicFramePr>
          <p:xfrm>
            <a:off x="4750560" y="3769920"/>
            <a:ext cx="627840" cy="480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1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750560" y="3769920"/>
                      <a:ext cx="62784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9" name=""/>
            <p:cNvGraphicFramePr/>
            <p:nvPr/>
          </p:nvGraphicFramePr>
          <p:xfrm>
            <a:off x="4513320" y="3101040"/>
            <a:ext cx="969120" cy="554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513320" y="3101040"/>
                      <a:ext cx="96912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1" name=""/>
          <p:cNvSpPr/>
          <p:nvPr/>
        </p:nvSpPr>
        <p:spPr>
          <a:xfrm flipV="1">
            <a:off x="3784680" y="4160880"/>
            <a:ext cx="0" cy="5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7760" y="4675320"/>
            <a:ext cx="307368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ta pun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el 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91200" y="2081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98880" y="175752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56320" y="404640"/>
            <a:ext cx="25876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punto de desti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de carga en 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430440" y="2705040"/>
            <a:ext cx="996840" cy="1391760"/>
            <a:chOff x="3430440" y="2705040"/>
            <a:chExt cx="996840" cy="1391760"/>
          </a:xfrm>
        </p:grpSpPr>
        <p:graphicFrame>
          <p:nvGraphicFramePr>
            <p:cNvPr id="527" name=""/>
            <p:cNvGraphicFramePr/>
            <p:nvPr/>
          </p:nvGraphicFramePr>
          <p:xfrm>
            <a:off x="3565800" y="2705040"/>
            <a:ext cx="861480" cy="3427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565800" y="2705040"/>
                      <a:ext cx="8614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9" name=""/>
            <p:cNvGraphicFramePr/>
            <p:nvPr/>
          </p:nvGraphicFramePr>
          <p:xfrm>
            <a:off x="3668040" y="3657960"/>
            <a:ext cx="628200" cy="4388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668040" y="3657960"/>
                      <a:ext cx="628200" cy="43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1" name=""/>
            <p:cNvGraphicFramePr/>
            <p:nvPr/>
          </p:nvGraphicFramePr>
          <p:xfrm>
            <a:off x="3430440" y="3047760"/>
            <a:ext cx="969480" cy="50580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3430440" y="3047760"/>
                      <a:ext cx="969480" cy="50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520560" y="2049480"/>
            <a:ext cx="5562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8120" y="17193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 y Segur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629240" y="2281320"/>
          <a:ext cx="830160" cy="355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629240" y="2281320"/>
                    <a:ext cx="830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277920"/>
            <a:ext cx="590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CIP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arriage and Insurance Paid To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e1"/>
                </a:solidFill>
                <a:latin typeface="Times New Roman"/>
              </a:rPr>
              <a:t>GRUPO 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Característica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Entrega en Punto de Desti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Vendedor designa y paga el Transpo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663300"/>
                </a:solidFill>
                <a:latin typeface="Book Antiqua"/>
              </a:rPr>
              <a:t>Vendedor asume el riesgo del transporte princip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000" y="155520"/>
            <a:ext cx="82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INCOTERM: DAT – </a:t>
            </a:r>
            <a:r>
              <a:rPr b="0" lang="de-DE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at Terminal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Entregado en Terminal o Puerto o Lugar Convenido</a:t>
            </a:r>
            <a:br>
              <a:rPr sz="2600"/>
            </a:b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482760" y="1773360"/>
          <a:ext cx="8192880" cy="4752720"/>
        </p:xfrm>
        <a:graphic>
          <a:graphicData uri="http://schemas.openxmlformats.org/drawingml/2006/table">
            <a:tbl>
              <a:tblPr/>
              <a:tblGrid>
                <a:gridCol w="1757160"/>
                <a:gridCol w="2724120"/>
                <a:gridCol w="37116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 en la terminal o puerto convenido, pagando el transporte y soportando riesgos hasta dicho punt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todo tipo de riesgo inherente y gasto de transporte desde que la mercancía se pone a su disposición en el lugar convenido en la termi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im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gar los impuestos aplicables a la importac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07080" y="-147600"/>
            <a:ext cx="18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459432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DAP – 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at Place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95440" y="2908440"/>
          <a:ext cx="112716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2908440"/>
                    <a:ext cx="11271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4638600" y="47372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859040" y="3071880"/>
          <a:ext cx="65232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9040" y="3071880"/>
                    <a:ext cx="6523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69160" y="3116160"/>
          <a:ext cx="67608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69160" y="3116160"/>
                    <a:ext cx="6760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781680" y="2894040"/>
          <a:ext cx="128448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2894040"/>
                    <a:ext cx="12844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4" name=""/>
          <p:cNvGrpSpPr/>
          <p:nvPr/>
        </p:nvGrpSpPr>
        <p:grpSpPr>
          <a:xfrm>
            <a:off x="2838600" y="3043080"/>
            <a:ext cx="591480" cy="622080"/>
            <a:chOff x="2838600" y="3043080"/>
            <a:chExt cx="591480" cy="622080"/>
          </a:xfrm>
        </p:grpSpPr>
        <p:graphicFrame>
          <p:nvGraphicFramePr>
            <p:cNvPr id="555" name=""/>
            <p:cNvGraphicFramePr/>
            <p:nvPr/>
          </p:nvGraphicFramePr>
          <p:xfrm>
            <a:off x="2990880" y="3043080"/>
            <a:ext cx="28692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90880" y="304308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"/>
            <p:cNvGraphicFramePr/>
            <p:nvPr/>
          </p:nvGraphicFramePr>
          <p:xfrm>
            <a:off x="3143160" y="3271680"/>
            <a:ext cx="28692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43160" y="3271680"/>
                      <a:ext cx="28692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9" name=""/>
            <p:cNvGraphicFramePr/>
            <p:nvPr/>
          </p:nvGraphicFramePr>
          <p:xfrm>
            <a:off x="2838600" y="327168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38600" y="32716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61" name=""/>
          <p:cNvGraphicFramePr/>
          <p:nvPr/>
        </p:nvGraphicFramePr>
        <p:xfrm>
          <a:off x="5407200" y="3222720"/>
          <a:ext cx="301320" cy="41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07200" y="3222720"/>
                    <a:ext cx="3013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3" name=""/>
          <p:cNvGrpSpPr/>
          <p:nvPr/>
        </p:nvGrpSpPr>
        <p:grpSpPr>
          <a:xfrm>
            <a:off x="5057640" y="2981160"/>
            <a:ext cx="441360" cy="630000"/>
            <a:chOff x="5057640" y="2981160"/>
            <a:chExt cx="441360" cy="630000"/>
          </a:xfrm>
        </p:grpSpPr>
        <p:graphicFrame>
          <p:nvGraphicFramePr>
            <p:cNvPr id="564" name=""/>
            <p:cNvGraphicFramePr/>
            <p:nvPr/>
          </p:nvGraphicFramePr>
          <p:xfrm>
            <a:off x="5195880" y="2981160"/>
            <a:ext cx="3031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5880" y="298116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5057640" y="32176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057640" y="32176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8" name=""/>
          <p:cNvSpPr/>
          <p:nvPr/>
        </p:nvSpPr>
        <p:spPr>
          <a:xfrm>
            <a:off x="4629240" y="4788000"/>
            <a:ext cx="41655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4240" y="38070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35960" y="368136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640400" y="4289400"/>
            <a:ext cx="0" cy="44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716200" y="3797280"/>
            <a:ext cx="96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25240" y="381312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ís de Ori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997520" y="3844800"/>
            <a:ext cx="144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ís de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76240" y="254808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13360" y="246204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4141440" y="4313160"/>
            <a:ext cx="11160" cy="42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8280" y="4749840"/>
            <a:ext cx="3527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75320" y="4786200"/>
            <a:ext cx="307368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ta pun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el 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25240" y="18288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557760" y="706320"/>
            <a:ext cx="2584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frontera de Export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Maniobras de carga en 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lugar conv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46840" y="3792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384800" y="4203720"/>
            <a:ext cx="0" cy="604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560" y="2097000"/>
            <a:ext cx="3743280" cy="1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284120" y="166356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422600" y="2095560"/>
            <a:ext cx="193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37160" y="14288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11600" y="1687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3624120" y="2287440"/>
            <a:ext cx="1228680" cy="2069640"/>
            <a:chOff x="3624120" y="2287440"/>
            <a:chExt cx="1228680" cy="2069640"/>
          </a:xfrm>
        </p:grpSpPr>
        <p:graphicFrame>
          <p:nvGraphicFramePr>
            <p:cNvPr id="590" name=""/>
            <p:cNvGraphicFramePr/>
            <p:nvPr/>
          </p:nvGraphicFramePr>
          <p:xfrm>
            <a:off x="3740760" y="2287440"/>
            <a:ext cx="1105920" cy="71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740760" y="2287440"/>
                      <a:ext cx="1105920" cy="71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2" name=""/>
            <p:cNvGrpSpPr/>
            <p:nvPr/>
          </p:nvGrpSpPr>
          <p:grpSpPr>
            <a:xfrm>
              <a:off x="3624120" y="3063600"/>
              <a:ext cx="1228680" cy="1293480"/>
              <a:chOff x="3624120" y="3063600"/>
              <a:chExt cx="1228680" cy="1293480"/>
            </a:xfrm>
          </p:grpSpPr>
          <p:graphicFrame>
            <p:nvGraphicFramePr>
              <p:cNvPr id="593" name=""/>
              <p:cNvGraphicFramePr/>
              <p:nvPr/>
            </p:nvGraphicFramePr>
            <p:xfrm>
              <a:off x="3790800" y="3063600"/>
              <a:ext cx="1062000" cy="3182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594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3790800" y="3063600"/>
                        <a:ext cx="1062000" cy="31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95" name=""/>
              <p:cNvGraphicFramePr/>
              <p:nvPr/>
            </p:nvGraphicFramePr>
            <p:xfrm>
              <a:off x="3916800" y="3949200"/>
              <a:ext cx="774000" cy="4078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596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3916800" y="3949200"/>
                        <a:ext cx="77400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97" name=""/>
              <p:cNvGraphicFramePr/>
              <p:nvPr/>
            </p:nvGraphicFramePr>
            <p:xfrm>
              <a:off x="3624120" y="3381840"/>
              <a:ext cx="1194840" cy="4701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598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624120" y="3381840"/>
                        <a:ext cx="1194840" cy="47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99" name=""/>
          <p:cNvSpPr/>
          <p:nvPr/>
        </p:nvSpPr>
        <p:spPr>
          <a:xfrm>
            <a:off x="4362480" y="2133720"/>
            <a:ext cx="19080" cy="3999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4000" y="155520"/>
            <a:ext cx="82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INCOTERM: DAP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At Plac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Entrega en lugar convenido </a:t>
            </a:r>
            <a:br>
              <a:rPr sz="2600"/>
            </a:b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684360" y="1628640"/>
          <a:ext cx="8280360" cy="4464000"/>
        </p:xfrm>
        <a:graphic>
          <a:graphicData uri="http://schemas.openxmlformats.org/drawingml/2006/table">
            <a:tbl>
              <a:tblPr/>
              <a:tblGrid>
                <a:gridCol w="2054880"/>
                <a:gridCol w="3078000"/>
                <a:gridCol w="3147480"/>
              </a:tblGrid>
              <a:tr h="813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50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legir y contratar el transporte, pagar el flete y soportar todos los riesgos del viaje hasta el lugar convenido de desti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la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sumir los gastos y riesgos, en el momento y en el punto de descar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gar los impuestos de importacion aplicab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58183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DAT – </a:t>
            </a:r>
            <a:r>
              <a:rPr b="0" lang="de-DE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at Terminal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37200" y="4713120"/>
            <a:ext cx="20466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Im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34880" y="2620800"/>
          <a:ext cx="122580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620800"/>
                    <a:ext cx="122580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6900840" y="4660920"/>
            <a:ext cx="1650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1822320" y="2895480"/>
          <a:ext cx="7876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2320" y="2895480"/>
                    <a:ext cx="7876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6351480" y="2890800"/>
          <a:ext cx="76356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1480" y="2890800"/>
                    <a:ext cx="7635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7302600" y="2668680"/>
          <a:ext cx="1149120" cy="8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2600" y="2668680"/>
                    <a:ext cx="11491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3" name=""/>
          <p:cNvGrpSpPr/>
          <p:nvPr/>
        </p:nvGrpSpPr>
        <p:grpSpPr>
          <a:xfrm>
            <a:off x="2801880" y="2892600"/>
            <a:ext cx="592200" cy="621720"/>
            <a:chOff x="2801880" y="2892600"/>
            <a:chExt cx="592200" cy="621720"/>
          </a:xfrm>
        </p:grpSpPr>
        <p:graphicFrame>
          <p:nvGraphicFramePr>
            <p:cNvPr id="614" name=""/>
            <p:cNvGraphicFramePr/>
            <p:nvPr/>
          </p:nvGraphicFramePr>
          <p:xfrm>
            <a:off x="2954520" y="2892600"/>
            <a:ext cx="28728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54520" y="28926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6" name=""/>
            <p:cNvGraphicFramePr/>
            <p:nvPr/>
          </p:nvGraphicFramePr>
          <p:xfrm>
            <a:off x="3106800" y="3120840"/>
            <a:ext cx="2872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06800" y="312084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8" name=""/>
            <p:cNvGraphicFramePr/>
            <p:nvPr/>
          </p:nvGraphicFramePr>
          <p:xfrm>
            <a:off x="2801880" y="312084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01880" y="312084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0" name=""/>
          <p:cNvGrpSpPr/>
          <p:nvPr/>
        </p:nvGrpSpPr>
        <p:grpSpPr>
          <a:xfrm>
            <a:off x="5342040" y="2849400"/>
            <a:ext cx="591840" cy="642960"/>
            <a:chOff x="5342040" y="2849400"/>
            <a:chExt cx="591840" cy="642960"/>
          </a:xfrm>
        </p:grpSpPr>
        <p:graphicFrame>
          <p:nvGraphicFramePr>
            <p:cNvPr id="621" name=""/>
            <p:cNvGraphicFramePr/>
            <p:nvPr/>
          </p:nvGraphicFramePr>
          <p:xfrm>
            <a:off x="5479920" y="2849400"/>
            <a:ext cx="30312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79920" y="284940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5632560" y="3078000"/>
            <a:ext cx="3013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32560" y="3078000"/>
                      <a:ext cx="3013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5" name=""/>
            <p:cNvGraphicFramePr/>
            <p:nvPr/>
          </p:nvGraphicFramePr>
          <p:xfrm>
            <a:off x="5342040" y="308592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42040" y="308592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7" name=""/>
          <p:cNvSpPr/>
          <p:nvPr/>
        </p:nvSpPr>
        <p:spPr>
          <a:xfrm>
            <a:off x="430200" y="360684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15560" y="366696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912000" y="39873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800440" y="3618000"/>
            <a:ext cx="685800" cy="533160"/>
            <a:chOff x="2800440" y="3618000"/>
            <a:chExt cx="685800" cy="533160"/>
          </a:xfrm>
        </p:grpSpPr>
        <p:sp>
          <p:nvSpPr>
            <p:cNvPr id="631" name=""/>
            <p:cNvSpPr/>
            <p:nvPr/>
          </p:nvSpPr>
          <p:spPr>
            <a:xfrm>
              <a:off x="2800440" y="3618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86240" y="36180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275440" y="3581280"/>
            <a:ext cx="685800" cy="533520"/>
            <a:chOff x="5275440" y="3581280"/>
            <a:chExt cx="685800" cy="533520"/>
          </a:xfrm>
        </p:grpSpPr>
        <p:sp>
          <p:nvSpPr>
            <p:cNvPr id="634" name=""/>
            <p:cNvSpPr/>
            <p:nvPr/>
          </p:nvSpPr>
          <p:spPr>
            <a:xfrm>
              <a:off x="5275440" y="3581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75440" y="3581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553840" y="3659040"/>
            <a:ext cx="93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299200" y="3611520"/>
            <a:ext cx="10731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de entrega Paí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65160" y="23097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23115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33720" y="2239920"/>
            <a:ext cx="1155600" cy="2191680"/>
            <a:chOff x="3933720" y="2239920"/>
            <a:chExt cx="1155600" cy="2191680"/>
          </a:xfrm>
        </p:grpSpPr>
        <p:graphicFrame>
          <p:nvGraphicFramePr>
            <p:cNvPr id="641" name=""/>
            <p:cNvGraphicFramePr/>
            <p:nvPr/>
          </p:nvGraphicFramePr>
          <p:xfrm>
            <a:off x="4153680" y="2239920"/>
            <a:ext cx="929880" cy="6764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4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153680" y="2239920"/>
                      <a:ext cx="929880" cy="6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43" name=""/>
            <p:cNvGrpSpPr/>
            <p:nvPr/>
          </p:nvGrpSpPr>
          <p:grpSpPr>
            <a:xfrm>
              <a:off x="3933720" y="2977920"/>
              <a:ext cx="1155600" cy="1453680"/>
              <a:chOff x="3933720" y="2977920"/>
              <a:chExt cx="1155600" cy="1453680"/>
            </a:xfrm>
          </p:grpSpPr>
          <p:graphicFrame>
            <p:nvGraphicFramePr>
              <p:cNvPr id="644" name=""/>
              <p:cNvGraphicFramePr/>
              <p:nvPr/>
            </p:nvGraphicFramePr>
            <p:xfrm>
              <a:off x="4090680" y="2977920"/>
              <a:ext cx="998640" cy="3578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64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090680" y="2977920"/>
                        <a:ext cx="998640" cy="357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46" name=""/>
              <p:cNvGraphicFramePr/>
              <p:nvPr/>
            </p:nvGraphicFramePr>
            <p:xfrm>
              <a:off x="4209120" y="3973320"/>
              <a:ext cx="727920" cy="4582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647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209120" y="3973320"/>
                        <a:ext cx="727920" cy="45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48" name=""/>
              <p:cNvGraphicFramePr/>
              <p:nvPr/>
            </p:nvGraphicFramePr>
            <p:xfrm>
              <a:off x="3933720" y="3335760"/>
              <a:ext cx="1123920" cy="52848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649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3933720" y="3335760"/>
                        <a:ext cx="1123920" cy="52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50" name=""/>
          <p:cNvSpPr/>
          <p:nvPr/>
        </p:nvSpPr>
        <p:spPr>
          <a:xfrm flipV="1">
            <a:off x="6610320" y="39891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52440" y="4673520"/>
            <a:ext cx="6269040" cy="12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7480" y="4700520"/>
            <a:ext cx="603936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pun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después de cruzar la frontera sin Despacho de Im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218280" y="20178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823080" y="692280"/>
            <a:ext cx="2320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lugar convenido país de destin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y Despacho de Export</a:t>
            </a:r>
            <a:r>
              <a:rPr b="0" lang="en-US" sz="1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07800" y="2004840"/>
            <a:ext cx="5910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08120" y="1544760"/>
            <a:ext cx="32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91320" y="2362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4000" y="155160"/>
            <a:ext cx="828036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INCOTERM: DDP –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ed</a:t>
            </a:r>
            <a:r>
              <a:rPr b="0" lang="es-ES_tradnl" sz="2600" spc="-1" strike="noStrike">
                <a:solidFill>
                  <a:srgbClr val="ffffe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d-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ntrega en destino con derechos pagados (indicando el lugar de destin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628640"/>
          <a:ext cx="8424720" cy="5362560"/>
        </p:xfrm>
        <a:graphic>
          <a:graphicData uri="http://schemas.openxmlformats.org/drawingml/2006/table">
            <a:tbl>
              <a:tblPr/>
              <a:tblGrid>
                <a:gridCol w="1584000"/>
                <a:gridCol w="4969080"/>
                <a:gridCol w="187164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, por su cuenta,  a disposición del Comprador, en el lugar de destino convenido en el país del Importador, incluidas las maniobras de descarg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e im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presenta la máxima obligación para el vende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l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ealizas los despachos de importacion en el lugar de destino incluyendo los impue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los riesgos y gastos que ocurran después de recibida la mercancía en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5457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DP –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livered Duty Paid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361800" y="2884320"/>
          <a:ext cx="115092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884320"/>
                    <a:ext cx="1150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1612800" y="3121200"/>
          <a:ext cx="8384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2800" y="3121200"/>
                    <a:ext cx="838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6453360" y="3152880"/>
          <a:ext cx="66492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53360" y="3152880"/>
                    <a:ext cx="6649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7351560" y="2943360"/>
          <a:ext cx="110016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1560" y="2943360"/>
                    <a:ext cx="11001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"/>
          <p:cNvGrpSpPr/>
          <p:nvPr/>
        </p:nvGrpSpPr>
        <p:grpSpPr>
          <a:xfrm>
            <a:off x="2643120" y="3067200"/>
            <a:ext cx="591840" cy="621720"/>
            <a:chOff x="2643120" y="3067200"/>
            <a:chExt cx="591840" cy="621720"/>
          </a:xfrm>
        </p:grpSpPr>
        <p:graphicFrame>
          <p:nvGraphicFramePr>
            <p:cNvPr id="670" name=""/>
            <p:cNvGraphicFramePr/>
            <p:nvPr/>
          </p:nvGraphicFramePr>
          <p:xfrm>
            <a:off x="2795400" y="3067200"/>
            <a:ext cx="28728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95400" y="306720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2" name=""/>
            <p:cNvGraphicFramePr/>
            <p:nvPr/>
          </p:nvGraphicFramePr>
          <p:xfrm>
            <a:off x="2947680" y="3295440"/>
            <a:ext cx="2872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47680" y="329544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4" name=""/>
            <p:cNvGraphicFramePr/>
            <p:nvPr/>
          </p:nvGraphicFramePr>
          <p:xfrm>
            <a:off x="2643120" y="329544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43120" y="329544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6" name=""/>
          <p:cNvGrpSpPr/>
          <p:nvPr/>
        </p:nvGrpSpPr>
        <p:grpSpPr>
          <a:xfrm>
            <a:off x="5551560" y="3035160"/>
            <a:ext cx="592200" cy="642960"/>
            <a:chOff x="5551560" y="3035160"/>
            <a:chExt cx="592200" cy="642960"/>
          </a:xfrm>
        </p:grpSpPr>
        <p:graphicFrame>
          <p:nvGraphicFramePr>
            <p:cNvPr id="677" name=""/>
            <p:cNvGraphicFramePr/>
            <p:nvPr/>
          </p:nvGraphicFramePr>
          <p:xfrm>
            <a:off x="5689440" y="3035160"/>
            <a:ext cx="30348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89440" y="3035160"/>
                      <a:ext cx="3034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5842080" y="3263760"/>
            <a:ext cx="30168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42080" y="3263760"/>
                      <a:ext cx="301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1" name=""/>
            <p:cNvGraphicFramePr/>
            <p:nvPr/>
          </p:nvGraphicFramePr>
          <p:xfrm>
            <a:off x="5551560" y="3271680"/>
            <a:ext cx="2872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551560" y="327168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3" name=""/>
          <p:cNvSpPr/>
          <p:nvPr/>
        </p:nvSpPr>
        <p:spPr>
          <a:xfrm>
            <a:off x="331560" y="38196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278840" y="381780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687760" y="3794040"/>
            <a:ext cx="685800" cy="533520"/>
            <a:chOff x="2687760" y="3794040"/>
            <a:chExt cx="685800" cy="533520"/>
          </a:xfrm>
        </p:grpSpPr>
        <p:sp>
          <p:nvSpPr>
            <p:cNvPr id="686" name=""/>
            <p:cNvSpPr/>
            <p:nvPr/>
          </p:nvSpPr>
          <p:spPr>
            <a:xfrm>
              <a:off x="268776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73560" y="37940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495760" y="3794040"/>
            <a:ext cx="685800" cy="533520"/>
            <a:chOff x="5495760" y="3794040"/>
            <a:chExt cx="685800" cy="533520"/>
          </a:xfrm>
        </p:grpSpPr>
        <p:sp>
          <p:nvSpPr>
            <p:cNvPr id="689" name=""/>
            <p:cNvSpPr/>
            <p:nvPr/>
          </p:nvSpPr>
          <p:spPr>
            <a:xfrm>
              <a:off x="5495760" y="379404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9576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2503800" y="3797280"/>
            <a:ext cx="88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73800" y="3773520"/>
            <a:ext cx="1141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de entrega  País de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54200" y="252576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394320" y="254952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005360" y="2573280"/>
            <a:ext cx="1228320" cy="2069640"/>
            <a:chOff x="4005360" y="2573280"/>
            <a:chExt cx="1228320" cy="2069640"/>
          </a:xfrm>
        </p:grpSpPr>
        <p:graphicFrame>
          <p:nvGraphicFramePr>
            <p:cNvPr id="696" name=""/>
            <p:cNvGraphicFramePr/>
            <p:nvPr/>
          </p:nvGraphicFramePr>
          <p:xfrm>
            <a:off x="4122000" y="2573280"/>
            <a:ext cx="1105560" cy="717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122000" y="2573280"/>
                      <a:ext cx="110556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8" name=""/>
            <p:cNvGrpSpPr/>
            <p:nvPr/>
          </p:nvGrpSpPr>
          <p:grpSpPr>
            <a:xfrm>
              <a:off x="4005360" y="3349440"/>
              <a:ext cx="1228320" cy="1293480"/>
              <a:chOff x="4005360" y="3349440"/>
              <a:chExt cx="1228320" cy="1293480"/>
            </a:xfrm>
          </p:grpSpPr>
          <p:graphicFrame>
            <p:nvGraphicFramePr>
              <p:cNvPr id="699" name=""/>
              <p:cNvGraphicFramePr/>
              <p:nvPr/>
            </p:nvGraphicFramePr>
            <p:xfrm>
              <a:off x="4172040" y="3349440"/>
              <a:ext cx="1061640" cy="3182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700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172040" y="3349440"/>
                        <a:ext cx="1061640" cy="31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01" name=""/>
              <p:cNvGraphicFramePr/>
              <p:nvPr/>
            </p:nvGraphicFramePr>
            <p:xfrm>
              <a:off x="4298040" y="4235040"/>
              <a:ext cx="774000" cy="4078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702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298040" y="4235040"/>
                        <a:ext cx="77400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03" name=""/>
              <p:cNvGraphicFramePr/>
              <p:nvPr/>
            </p:nvGraphicFramePr>
            <p:xfrm>
              <a:off x="4005360" y="3667680"/>
              <a:ext cx="1194480" cy="4701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704" name="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4005360" y="3667680"/>
                        <a:ext cx="1194480" cy="47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705" name=""/>
          <p:cNvSpPr/>
          <p:nvPr/>
        </p:nvSpPr>
        <p:spPr>
          <a:xfrm flipV="1">
            <a:off x="8035920" y="42764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6880" y="4973760"/>
            <a:ext cx="7723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2880" y="4992840"/>
            <a:ext cx="679860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punto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en punto convenido en país de des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 y Despacho de Import. en país de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271000" y="2394000"/>
            <a:ext cx="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957440" y="213192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96200" y="692280"/>
            <a:ext cx="26478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Segu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hasta lugar convenido país de destino, Despacho de Export y Despacho de Im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62080" y="2280960"/>
            <a:ext cx="7751520" cy="3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98800" y="1725480"/>
            <a:ext cx="33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e1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01880" y="1581120"/>
            <a:ext cx="703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00ac0"/>
                </a:solidFill>
                <a:latin typeface="Book Antiqua"/>
              </a:rPr>
              <a:t>V. Modo de transporte e INCOTERM apropi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800" spc="-1" strike="noStrike">
                <a:solidFill>
                  <a:srgbClr val="ffffe1"/>
                </a:solidFill>
                <a:latin typeface="Times New Roman"/>
              </a:rPr>
              <a:t>Modo de transporte e INCOTERM apropiado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26920" y="333000"/>
            <a:ext cx="75060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ara los Incoterms 2010 se hacen dos clasificaciones segun el medio de transpor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13800" indent="-2844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5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Book Antiqua"/>
              </a:rPr>
              <a:t>Cualquier medio de trans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13800" indent="-28440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5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Book Antiqua"/>
              </a:rPr>
              <a:t>Transporte marit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611280" y="2637000"/>
          <a:ext cx="8353440" cy="4031640"/>
        </p:xfrm>
        <a:graphic>
          <a:graphicData uri="http://schemas.openxmlformats.org/drawingml/2006/table">
            <a:tbl>
              <a:tblPr/>
              <a:tblGrid>
                <a:gridCol w="1628280"/>
                <a:gridCol w="1263240"/>
                <a:gridCol w="5461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co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scrip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ualquier tipo de transporte, incluído el multimod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X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6600" indent="-66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 Fábrica (... lugar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bre Transportista (... lugar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porte pagado hasta (... lugar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porte y seguro pagados hasta (... lugar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 en frontera (... lugar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da derechos no pagados (... lugar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da derechos pagados (... lugar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INCOTERM: EXW – Ex Works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En fábrica (indicando lugar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495440"/>
          <a:ext cx="8353440" cy="4753080"/>
        </p:xfrm>
        <a:graphic>
          <a:graphicData uri="http://schemas.openxmlformats.org/drawingml/2006/table">
            <a:tbl>
              <a:tblPr/>
              <a:tblGrid>
                <a:gridCol w="1542960"/>
                <a:gridCol w="3281400"/>
                <a:gridCol w="35290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4673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ner la mercancía a disposición del comprador en el establecimiento del vendedo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ste término representa la mínima obligación para 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mbalar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legir el modo de transport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el costo del riesgo inherente al transporte, incluyendo seguimiento en tránsito, reclamaciones, etc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rgar la mercancía en el medio de transporte provisto por el compra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900000" y="1916280"/>
          <a:ext cx="7979040" cy="2955600"/>
        </p:xfrm>
        <a:graphic>
          <a:graphicData uri="http://schemas.openxmlformats.org/drawingml/2006/table">
            <a:tbl>
              <a:tblPr/>
              <a:tblGrid>
                <a:gridCol w="1554120"/>
                <a:gridCol w="1311480"/>
                <a:gridCol w="5113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co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scrip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ransporte marít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bre al costado del buque (... puerto de carga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ibre a bordo (... puerto de carga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sto y flete (... puerto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Book Antiqu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sto, seguro y flete (... puerto de destino conveni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4378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EXW – Ex Wor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8920" y="2959200"/>
          <a:ext cx="1170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2959200"/>
                    <a:ext cx="117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V="1">
            <a:off x="990720" y="4678200"/>
            <a:ext cx="7269120" cy="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21080" y="3281400"/>
          <a:ext cx="64116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1080" y="3281400"/>
                    <a:ext cx="641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737400" y="3287880"/>
          <a:ext cx="66528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7400" y="3287880"/>
                    <a:ext cx="6652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459560" y="2995560"/>
          <a:ext cx="1255680" cy="87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59560" y="2995560"/>
                    <a:ext cx="12556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379680" y="4006800"/>
          <a:ext cx="12099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79680" y="4006800"/>
                    <a:ext cx="1209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59200" y="3984480"/>
          <a:ext cx="905040" cy="49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59200" y="3984480"/>
                    <a:ext cx="9050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154560" y="3260880"/>
          <a:ext cx="303480" cy="41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4560" y="3260880"/>
                    <a:ext cx="3034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662040" y="2660760"/>
            <a:ext cx="609480" cy="456840"/>
            <a:chOff x="662040" y="2660760"/>
            <a:chExt cx="609480" cy="456840"/>
          </a:xfrm>
        </p:grpSpPr>
        <p:graphicFrame>
          <p:nvGraphicFramePr>
            <p:cNvPr id="123" name=""/>
            <p:cNvGraphicFramePr/>
            <p:nvPr/>
          </p:nvGraphicFramePr>
          <p:xfrm>
            <a:off x="831960" y="2660760"/>
            <a:ext cx="287280" cy="283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31960" y="2660760"/>
                      <a:ext cx="28728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"/>
            <p:cNvGraphicFramePr/>
            <p:nvPr/>
          </p:nvGraphicFramePr>
          <p:xfrm>
            <a:off x="984240" y="2825280"/>
            <a:ext cx="287280" cy="283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984240" y="2825280"/>
                      <a:ext cx="28728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662040" y="2834280"/>
            <a:ext cx="287280" cy="2833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040" y="2834280"/>
                      <a:ext cx="287280" cy="28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9" name=""/>
          <p:cNvGraphicFramePr/>
          <p:nvPr/>
        </p:nvGraphicFramePr>
        <p:xfrm>
          <a:off x="6308640" y="3465360"/>
          <a:ext cx="301680" cy="414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8640" y="3465360"/>
                    <a:ext cx="3016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948280" y="3473280"/>
          <a:ext cx="287280" cy="39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48280" y="3473280"/>
                    <a:ext cx="287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35360" y="2949480"/>
          <a:ext cx="1081080" cy="99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35360" y="2949480"/>
                    <a:ext cx="10810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07160" y="4653000"/>
            <a:ext cx="901548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esgo y Responsabilidad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coger la mercancía en el local del vend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tratar Transporte y Seguro de la mercancía hasta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fectuar el despacho de Exportación e Im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" y="385776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4760" y="386064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90720" y="4250880"/>
            <a:ext cx="0" cy="45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27280" y="3681360"/>
            <a:ext cx="685800" cy="533160"/>
            <a:chOff x="1727280" y="3681360"/>
            <a:chExt cx="685800" cy="533160"/>
          </a:xfrm>
        </p:grpSpPr>
        <p:sp>
          <p:nvSpPr>
            <p:cNvPr id="140" name=""/>
            <p:cNvSpPr/>
            <p:nvPr/>
          </p:nvSpPr>
          <p:spPr>
            <a:xfrm>
              <a:off x="1727280" y="36813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13080" y="3681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65920" y="3959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65920" y="3960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280" y="3705120"/>
            <a:ext cx="93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gar 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88600" y="4083120"/>
            <a:ext cx="837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í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40160" y="2749680"/>
            <a:ext cx="792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97440" y="272412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300480" y="3227400"/>
          <a:ext cx="1359000" cy="771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00480" y="3227400"/>
                    <a:ext cx="13590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43280" y="1484280"/>
            <a:ext cx="23702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00ac0"/>
                </a:solidFill>
                <a:uFillTx/>
                <a:latin typeface="Book Antiqua"/>
              </a:rPr>
              <a:t>Precio Mercanc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Book Antiqua"/>
              </a:rPr>
              <a:t>No Incluye Fle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Book Antiqua"/>
              </a:rPr>
              <a:t>Seguros, Maniobras 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Book Antiqua"/>
              </a:rPr>
              <a:t>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1000" y="19875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8240" y="1662120"/>
            <a:ext cx="6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e1"/>
                </a:solidFill>
                <a:latin typeface="Times New Roman"/>
              </a:rPr>
              <a:t>GRUPO 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Característica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  </a:t>
            </a: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Entrega en Punto de Embar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Comprador designa y paga el Trans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35b1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0" lang="es-SV" sz="2600" spc="-1" strike="noStrike">
                <a:solidFill>
                  <a:srgbClr val="663300"/>
                </a:solidFill>
                <a:latin typeface="Book Antiqua"/>
              </a:rPr>
              <a:t>Comprador asume el riesgo del transporte      princip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INCOTERM: FCA – Free Carrier</a:t>
            </a:r>
            <a:br>
              <a:rPr sz="2600"/>
            </a:b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Libre transportista (indicando lugar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2040" y="2205000"/>
          <a:ext cx="8481960" cy="4319280"/>
        </p:xfrm>
        <a:graphic>
          <a:graphicData uri="http://schemas.openxmlformats.org/drawingml/2006/table">
            <a:tbl>
              <a:tblPr/>
              <a:tblGrid>
                <a:gridCol w="2104920"/>
                <a:gridCol w="3129480"/>
                <a:gridCol w="3247560"/>
              </a:tblGrid>
              <a:tr h="87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do tipo de transport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xcepto 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 al transportista designado por el Comprador en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la factura comerci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legir modo de transporte y transportist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SV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oportar gastos y riesgos de la mercancía desde que el transportista se hace cargo de ella en el lugar conveni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55450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FCA - </a:t>
            </a: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Free Carrier</a:t>
            </a: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73160" y="2471760"/>
          <a:ext cx="94932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2471760"/>
                    <a:ext cx="94932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233440" y="4313160"/>
            <a:ext cx="6147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97160" y="2844720"/>
          <a:ext cx="70020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2844720"/>
                    <a:ext cx="70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611760" y="2816280"/>
          <a:ext cx="63036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11760" y="2816280"/>
                    <a:ext cx="6303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343640" y="2579760"/>
          <a:ext cx="1094040" cy="79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43640" y="2579760"/>
                    <a:ext cx="10940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635360" y="3433680"/>
          <a:ext cx="1059120" cy="37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5360" y="3433680"/>
                    <a:ext cx="1059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782880" y="3473280"/>
          <a:ext cx="752760" cy="40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2880" y="3473280"/>
                    <a:ext cx="75276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3078000" y="2666880"/>
            <a:ext cx="556920" cy="704520"/>
            <a:chOff x="3078000" y="2666880"/>
            <a:chExt cx="556920" cy="704520"/>
          </a:xfrm>
        </p:grpSpPr>
        <p:graphicFrame>
          <p:nvGraphicFramePr>
            <p:cNvPr id="172" name=""/>
            <p:cNvGraphicFramePr/>
            <p:nvPr/>
          </p:nvGraphicFramePr>
          <p:xfrm>
            <a:off x="3276360" y="2666880"/>
            <a:ext cx="270360" cy="363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76360" y="266688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3364560" y="3007440"/>
            <a:ext cx="270360" cy="363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64560" y="300744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3078000" y="3007440"/>
            <a:ext cx="270360" cy="363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78000" y="300744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8" name=""/>
          <p:cNvGraphicFramePr/>
          <p:nvPr/>
        </p:nvGraphicFramePr>
        <p:xfrm>
          <a:off x="4678200" y="2610000"/>
          <a:ext cx="1116000" cy="765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78200" y="2610000"/>
                    <a:ext cx="111600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673360" y="4402080"/>
            <a:ext cx="594504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tratar Transporte y Seguro de la mercancía hasta des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fectuar el despacho de Im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42760" y="33163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9240" y="344664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220840" y="3661920"/>
            <a:ext cx="0" cy="66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63720" y="3490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38360" y="34894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75280" y="3500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77080" y="3500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0760" y="352116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0200" y="351792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51080" y="2274840"/>
            <a:ext cx="792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695760" y="2814480"/>
          <a:ext cx="946080" cy="623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95760" y="2814480"/>
                    <a:ext cx="9460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659640" y="404640"/>
            <a:ext cx="2484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0ac0"/>
                </a:solidFill>
                <a:latin typeface="Arial"/>
              </a:rPr>
              <a:t>Puede o No Incluir Fletes, Segur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0ac0"/>
                </a:solidFill>
                <a:latin typeface="Arial"/>
              </a:rPr>
              <a:t>Pero Incluye: Maniobras y  Despacho de Export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75040" y="3649320"/>
            <a:ext cx="0" cy="68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6840" y="4325760"/>
            <a:ext cx="1086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26226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tregar mercanc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 el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25520" y="2104560"/>
            <a:ext cx="630540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2480" bIns="-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02000" y="2136600"/>
            <a:ext cx="144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832360" y="2679840"/>
            <a:ext cx="556920" cy="704520"/>
            <a:chOff x="5832360" y="2679840"/>
            <a:chExt cx="556920" cy="704520"/>
          </a:xfrm>
        </p:grpSpPr>
        <p:graphicFrame>
          <p:nvGraphicFramePr>
            <p:cNvPr id="200" name=""/>
            <p:cNvGraphicFramePr/>
            <p:nvPr/>
          </p:nvGraphicFramePr>
          <p:xfrm>
            <a:off x="6030720" y="2679840"/>
            <a:ext cx="270360" cy="363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030720" y="267984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6118920" y="3020400"/>
            <a:ext cx="270360" cy="363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118920" y="302040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5832360" y="3020400"/>
            <a:ext cx="270360" cy="363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832360" y="3020400"/>
                      <a:ext cx="270360" cy="36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6" name=""/>
          <p:cNvSpPr/>
          <p:nvPr/>
        </p:nvSpPr>
        <p:spPr>
          <a:xfrm>
            <a:off x="6550200" y="2363760"/>
            <a:ext cx="7920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92400" y="1805040"/>
            <a:ext cx="59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5120" y="171612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stos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73520" y="171144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stos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280" y="155160"/>
            <a:ext cx="80499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Book Antiqua"/>
              </a:rPr>
              <a:t>INCOTERM: FAS – Free Alongside Ship Libre al costado del barco (indicando puerto de embarque convenido)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8360" y="1628640"/>
          <a:ext cx="8410680" cy="4464000"/>
        </p:xfrm>
        <a:graphic>
          <a:graphicData uri="http://schemas.openxmlformats.org/drawingml/2006/table">
            <a:tbl>
              <a:tblPr/>
              <a:tblGrid>
                <a:gridCol w="1593720"/>
                <a:gridCol w="2936880"/>
                <a:gridCol w="3880080"/>
              </a:tblGrid>
              <a:tr h="71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ipo de 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ligaciones del Comp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14480" indent="-1130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rítim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ntregar la mercancía en el lugar designado por el comprador en el puerto convenido. (Al costado del buque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ex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porcionar la factura comer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legir Empresa Naviera y dar nombre del Buque al Vende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agar flete y  soportar el riesgo de la mercancía desde que el vendedor la entrega al costado del Buqu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tener licencias para importació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fectuar el despacho de importación de la mercanc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06680" y="4898880"/>
            <a:ext cx="5994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y Responsabilidad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ir la mercancía a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tar Transporte y Seguro hasta 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el despacho de Im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23960" y="2738520"/>
          <a:ext cx="11937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2738520"/>
                    <a:ext cx="11937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16400" y="4862520"/>
            <a:ext cx="5333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62160" y="3025800"/>
          <a:ext cx="6764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2160" y="3025800"/>
                    <a:ext cx="676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724800" y="3038400"/>
          <a:ext cx="66492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3038400"/>
                    <a:ext cx="6649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94480" y="2914560"/>
          <a:ext cx="1104840" cy="68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94480" y="2914560"/>
                    <a:ext cx="110484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3035160" y="2968560"/>
            <a:ext cx="592200" cy="622080"/>
            <a:chOff x="3035160" y="2968560"/>
            <a:chExt cx="592200" cy="622080"/>
          </a:xfrm>
        </p:grpSpPr>
        <p:graphicFrame>
          <p:nvGraphicFramePr>
            <p:cNvPr id="223" name=""/>
            <p:cNvGraphicFramePr/>
            <p:nvPr/>
          </p:nvGraphicFramePr>
          <p:xfrm>
            <a:off x="3187800" y="2968560"/>
            <a:ext cx="287280" cy="393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87800" y="29685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"/>
            <p:cNvGraphicFramePr/>
            <p:nvPr/>
          </p:nvGraphicFramePr>
          <p:xfrm>
            <a:off x="3340080" y="3197160"/>
            <a:ext cx="2872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40080" y="31971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3035160" y="3197160"/>
            <a:ext cx="287280" cy="393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35160" y="3197160"/>
                      <a:ext cx="2872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9" name=""/>
          <p:cNvGrpSpPr/>
          <p:nvPr/>
        </p:nvGrpSpPr>
        <p:grpSpPr>
          <a:xfrm>
            <a:off x="5959440" y="2971800"/>
            <a:ext cx="591840" cy="642960"/>
            <a:chOff x="5959440" y="2971800"/>
            <a:chExt cx="591840" cy="642960"/>
          </a:xfrm>
        </p:grpSpPr>
        <p:graphicFrame>
          <p:nvGraphicFramePr>
            <p:cNvPr id="230" name=""/>
            <p:cNvGraphicFramePr/>
            <p:nvPr/>
          </p:nvGraphicFramePr>
          <p:xfrm>
            <a:off x="6097320" y="2971800"/>
            <a:ext cx="303120" cy="41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097320" y="2971800"/>
                      <a:ext cx="3031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2" name=""/>
            <p:cNvGraphicFramePr/>
            <p:nvPr/>
          </p:nvGraphicFramePr>
          <p:xfrm>
            <a:off x="6249960" y="3200400"/>
            <a:ext cx="301320" cy="414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49960" y="3200400"/>
                      <a:ext cx="30132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"/>
            <p:cNvGraphicFramePr/>
            <p:nvPr/>
          </p:nvGraphicFramePr>
          <p:xfrm>
            <a:off x="5959440" y="3208320"/>
            <a:ext cx="287280" cy="39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59440" y="3208320"/>
                      <a:ext cx="2872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6" name=""/>
          <p:cNvGraphicFramePr/>
          <p:nvPr/>
        </p:nvGraphicFramePr>
        <p:xfrm>
          <a:off x="3759120" y="2901960"/>
          <a:ext cx="1092240" cy="708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59120" y="2901960"/>
                    <a:ext cx="10922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829040" y="2843280"/>
          <a:ext cx="1022400" cy="75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29040" y="2843280"/>
                    <a:ext cx="10224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612720" y="361476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52000" y="365436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414600" y="4329000"/>
            <a:ext cx="0" cy="5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05280" y="3697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79920" y="37083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0200" y="36990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0200" y="37083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99640" y="3714840"/>
            <a:ext cx="1002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43680" y="3759120"/>
            <a:ext cx="95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ert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44520" y="248292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73680" y="2481120"/>
            <a:ext cx="79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u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26400" y="738360"/>
            <a:ext cx="20682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00ac0"/>
                </a:solidFill>
                <a:uFillTx/>
                <a:latin typeface="Arial"/>
              </a:rPr>
              <a:t>Precio Mercancí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Incluye Fletes y  Seguros al costado del buque e Incluye Despach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0ac0"/>
                </a:solidFill>
                <a:latin typeface="Arial"/>
              </a:rPr>
              <a:t>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5480" y="4327200"/>
            <a:ext cx="111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000" y="4897440"/>
            <a:ext cx="2895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6840" y="4908600"/>
            <a:ext cx="29840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go del 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gar mercancía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ado del bu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uar despacho de Ex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03720" y="22766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7760" y="1895400"/>
            <a:ext cx="58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7800" y="2260440"/>
            <a:ext cx="6248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040" y="173052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de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Vend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95560" y="1762200"/>
            <a:ext cx="2819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200ac0"/>
                </a:solidFill>
                <a:latin typeface="Arial"/>
              </a:rPr>
              <a:t>Costos del 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509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 Antiqua"/>
              </a:rPr>
              <a:t>FAS - </a:t>
            </a: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Free Alongside Ship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Book Antiqua"/>
              </a:rPr>
              <a:t>TRANSFERENCIA DE LA RESPONSABILIDAD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21:28:51Z</dcterms:created>
  <dc:creator>Cecilia</dc:creator>
  <dc:description/>
  <dc:language>en-US</dc:language>
  <cp:lastModifiedBy>Admin</cp:lastModifiedBy>
  <dcterms:modified xsi:type="dcterms:W3CDTF">2011-11-22T10:46:07Z</dcterms:modified>
  <cp:revision>9</cp:revision>
  <dc:subject/>
  <dc:title>Diapositiva 1</dc:title>
</cp:coreProperties>
</file>